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F5F-BFE4-4CDA-B875-BFF5CEF1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A4E-311C-4362-BA8C-128B946E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320-498F-4D5F-A83C-FF540E0D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A84-9BDF-42BA-865C-F3B7D495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451-70A1-441B-AC2B-5A41146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298-598E-4406-AFB1-3A1BEF4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A7B-6D16-43BD-A714-E964DB17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DEF-6162-4D7F-ABC4-DB1B83C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320-29D5-41B9-AAD1-D7BE666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E2F-7F42-4EC1-A687-09C00B7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D74-B5A9-41EE-B52A-0EED1A5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8E1-C3F7-45D0-AA96-92DE6E3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31D-8711-4DB3-84DB-4DB139935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ИКТО\0PRZB9CAJIQ3A9CAVX6RAICA4887SYCATXUWHKCATPF2LECA3GTNGNCA8R510QCABHBOJGCA38IXNTCA5UIVCLCA26W601CATOI1GFCA8Q3WAZCA8BRSTACAMT1UCXCABLRWQVCA08IYOXCAW31380CAASFMG7.jpg"/>
          <p:cNvPicPr/>
          <p:nvPr/>
        </p:nvPicPr>
        <p:blipFill>
          <a:blip r:embed="rId1"/>
          <a:stretch/>
        </p:blipFill>
        <p:spPr>
          <a:xfrm>
            <a:off x="1189080" y="420840"/>
            <a:ext cx="4121280" cy="553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:\Documents and Settings\Admin\Рабочий стол\INTEL\арр\normal_DSC_0302.jpg"/>
          <p:cNvPicPr/>
          <p:nvPr/>
        </p:nvPicPr>
        <p:blipFill>
          <a:blip r:embed="rId2"/>
          <a:stretch/>
        </p:blipFill>
        <p:spPr>
          <a:xfrm>
            <a:off x="5778360" y="920880"/>
            <a:ext cx="232884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Admin\Рабочий стол\INTEL\арр\i2.jpeg"/>
          <p:cNvPicPr/>
          <p:nvPr/>
        </p:nvPicPr>
        <p:blipFill>
          <a:blip r:embed="rId3"/>
          <a:stretch/>
        </p:blipFill>
        <p:spPr>
          <a:xfrm>
            <a:off x="5291280" y="4157640"/>
            <a:ext cx="2779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ИКТО\радуга.jpg"/>
          <p:cNvPicPr/>
          <p:nvPr/>
        </p:nvPicPr>
        <p:blipFill>
          <a:blip r:embed="rId1"/>
          <a:stretch/>
        </p:blipFill>
        <p:spPr>
          <a:xfrm>
            <a:off x="4449600" y="92160"/>
            <a:ext cx="493236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\Рабочий стол\ИКТО\ИКТО12\568345.jpg"/>
          <p:cNvPicPr/>
          <p:nvPr/>
        </p:nvPicPr>
        <p:blipFill>
          <a:blip r:embed="rId2"/>
          <a:stretch/>
        </p:blipFill>
        <p:spPr>
          <a:xfrm>
            <a:off x="1066680" y="2494080"/>
            <a:ext cx="5085000" cy="4187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19240"/>
            <a:ext cx="43722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ИКТО\4SX7IBCAA6CUS7CA8P3G44CA79IMANCAW99ZEHCAJBEFOVCAVSZYN4CAVW2W7LCA1VSZ2GCA92XPJKCA8NF0BTCAWZOKHCCA0MS59ZCAWJ5KV4CAKGM9X3CA0E3N0DCAXMD88PCAIKL2JWCAIZ749ICAZB8XMP.jpg"/>
          <p:cNvPicPr/>
          <p:nvPr/>
        </p:nvPicPr>
        <p:blipFill>
          <a:blip r:embed="rId1"/>
          <a:stretch/>
        </p:blipFill>
        <p:spPr>
          <a:xfrm>
            <a:off x="1357200" y="357120"/>
            <a:ext cx="3286080" cy="24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C:\Documents and Settings\Admin\Рабочий стол\ИКТО\967aa924da31990b5edbd9ebb2d59948.jpg"/>
          <p:cNvPicPr/>
          <p:nvPr/>
        </p:nvPicPr>
        <p:blipFill>
          <a:blip r:embed="rId2"/>
          <a:stretch/>
        </p:blipFill>
        <p:spPr>
          <a:xfrm>
            <a:off x="4048200" y="3067200"/>
            <a:ext cx="4248000" cy="6325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4363920" y="219240"/>
            <a:ext cx="46040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55:30Z</dcterms:created>
  <dc:creator>Игорь</dc:creator>
  <dc:description/>
  <dc:language>en-US</dc:language>
  <cp:lastModifiedBy>TIGROID</cp:lastModifiedBy>
  <dcterms:modified xsi:type="dcterms:W3CDTF">2010-06-03T12:46:24Z</dcterms:modified>
  <cp:revision>5</cp:revision>
  <dc:subject/>
  <dc:title>Слайд 1</dc:title>
</cp:coreProperties>
</file>